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C899-4F80-40F1-8F15-5D6009AD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DEEB-6009-4F32-BD92-361CA16D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233F-3C49-4FC9-B4CA-44FCB409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57A7-B947-4CDF-A86A-1B7ED571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F03F-752D-435F-B23A-A8F11F7F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CFFC-CD84-4FD8-8B5F-DDAF1059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6350-1DAC-46A9-AB80-02A5FBA8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207B-7771-402D-B709-C2EFF17D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C2E7-F712-4470-A894-01D8B72C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4EAB-9B7F-4865-9CF1-85DC71A8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8559-6757-4282-85E3-9618ADF8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9CB8-9D28-41CD-A0E3-039CE413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8C8C-96CF-44E9-9FAB-54BD88122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4.png"/><Relationship Id="rId6" Type="http://schemas.openxmlformats.org/officeDocument/2006/relationships/image" Target="../media/image7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4.png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1900800">
            <a:off x="1555920" y="-571320"/>
            <a:ext cx="3576600" cy="478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57575"/>
                    </a:gs>
                    <a:gs pos="100000">
                      <a:srgbClr val="ffffff"/>
                    </a:gs>
                  </a:gsLst>
                  <a:lin ang="3498000"/>
                </a:gradFill>
                <a:latin typeface="Comic Sans MS"/>
              </a:rPr>
              <a:t>My Story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757575"/>
                  </a:gs>
                  <a:gs pos="100000">
                    <a:srgbClr val="ffffff"/>
                  </a:gs>
                </a:gsLst>
                <a:lin ang="3498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57575"/>
                    </a:gs>
                    <a:gs pos="100000">
                      <a:srgbClr val="ffffff"/>
                    </a:gs>
                  </a:gsLst>
                  <a:lin ang="3498000"/>
                </a:gradFill>
                <a:latin typeface="Comic Sans MS"/>
              </a:rPr>
              <a:t>  </a:t>
            </a: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57575"/>
                    </a:gs>
                    <a:gs pos="100000">
                      <a:srgbClr val="ffffff"/>
                    </a:gs>
                  </a:gsLst>
                  <a:lin ang="3498000"/>
                </a:gradFill>
                <a:latin typeface="Comic Sans MS"/>
              </a:rPr>
              <a:t>Book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757575"/>
                  </a:gs>
                  <a:gs pos="100000">
                    <a:srgbClr val="ffffff"/>
                  </a:gs>
                </a:gsLst>
                <a:lin ang="3498000"/>
              </a:gradFill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 rot="1023600">
            <a:off x="1658880" y="2800080"/>
            <a:ext cx="3743280" cy="271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57575"/>
                    </a:gs>
                    <a:gs pos="100000">
                      <a:srgbClr val="ffffff"/>
                    </a:gs>
                  </a:gsLst>
                  <a:lin ang="4374000"/>
                </a:gradFill>
                <a:latin typeface="Comic Sans MS"/>
              </a:rPr>
              <a:t>A day at the</a:t>
            </a:r>
            <a:endParaRPr b="1" lang="en-US" sz="32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757575"/>
                  </a:gs>
                  <a:gs pos="100000">
                    <a:srgbClr val="ffffff"/>
                  </a:gs>
                </a:gsLst>
                <a:lin ang="4374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57575"/>
                    </a:gs>
                    <a:gs pos="100000">
                      <a:srgbClr val="ffffff"/>
                    </a:gs>
                  </a:gsLst>
                  <a:lin ang="4374000"/>
                </a:gradFill>
                <a:latin typeface="Comic Sans MS"/>
              </a:rPr>
              <a:t> </a:t>
            </a:r>
            <a:r>
              <a:rPr b="1" lang="en-US" sz="32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57575"/>
                    </a:gs>
                    <a:gs pos="100000">
                      <a:srgbClr val="ffffff"/>
                    </a:gs>
                  </a:gsLst>
                  <a:lin ang="4374000"/>
                </a:gradFill>
                <a:latin typeface="Comic Sans MS"/>
              </a:rPr>
              <a:t>Forbidden Garden</a:t>
            </a:r>
            <a:endParaRPr b="1" lang="en-US" sz="32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757575"/>
                  </a:gs>
                  <a:gs pos="100000">
                    <a:srgbClr val="ffffff"/>
                  </a:gs>
                </a:gsLst>
                <a:lin ang="4374000"/>
              </a:gradFill>
              <a:latin typeface="Comic Sans MS"/>
              <a:ea typeface="Comic Sans MS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4437000"/>
            <a:ext cx="34560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, James and Rowan are at the Forbidden Ga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32000" y="4437000"/>
            <a:ext cx="3600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walking through a sprinkler and getting w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  <a:hlinkClick r:id="rId2"/>
          </p:cNvPr>
          <p:cNvSpPr/>
          <p:nvPr/>
        </p:nvSpPr>
        <p:spPr>
          <a:xfrm>
            <a:off x="7740720" y="6237360"/>
            <a:ext cx="718920" cy="3603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3384360" cy="2700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419640" y="458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5003640" y="1052640"/>
            <a:ext cx="3384720" cy="2587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8172360" y="458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5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75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24000" y="4437000"/>
            <a:ext cx="352728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found some legs stuck in the w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58920" y="4437000"/>
            <a:ext cx="3600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found a metal giant hiding in the t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  <a:hlinkClick r:id="rId2"/>
          </p:cNvPr>
          <p:cNvSpPr/>
          <p:nvPr/>
        </p:nvSpPr>
        <p:spPr>
          <a:xfrm>
            <a:off x="7740720" y="6237360"/>
            <a:ext cx="718920" cy="3603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previousslide"/>
            <a:hlinkClick r:id="rId3"/>
          </p:cNvPr>
          <p:cNvSpPr/>
          <p:nvPr/>
        </p:nvSpPr>
        <p:spPr>
          <a:xfrm flipH="1">
            <a:off x="467640" y="6237360"/>
            <a:ext cx="718920" cy="3603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95280" y="404640"/>
            <a:ext cx="3170160" cy="3745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419640" y="4508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5148360" y="333360"/>
            <a:ext cx="3135240" cy="3960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8101080" y="4508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50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400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4437000"/>
            <a:ext cx="352728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t is time to go home. Goodby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58920" y="4149720"/>
            <a:ext cx="3600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 Sco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previousslide"/>
            <a:hlinkClick r:id="rId2"/>
          </p:cNvPr>
          <p:cNvSpPr/>
          <p:nvPr/>
        </p:nvSpPr>
        <p:spPr>
          <a:xfrm flipH="1">
            <a:off x="467640" y="6237360"/>
            <a:ext cx="718920" cy="3603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932360" y="1125360"/>
            <a:ext cx="3600360" cy="2186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68360" y="1125360"/>
            <a:ext cx="3240000" cy="2430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276720" y="494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12160" y="5738760"/>
            <a:ext cx="7797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Re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7" action="ppaction://hlinksldjump"/>
              </a:rPr>
              <a:t>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499520" y="573408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300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13:50:26Z</dcterms:created>
  <dc:creator>OEM Preinstalled User</dc:creator>
  <dc:description/>
  <dc:language>en-US</dc:language>
  <cp:lastModifiedBy>OEM Preinstalled User</cp:lastModifiedBy>
  <dcterms:modified xsi:type="dcterms:W3CDTF">2005-03-02T16:49:09Z</dcterms:modified>
  <cp:revision>18</cp:revision>
  <dc:subject/>
  <dc:title>Slide 1</dc:title>
</cp:coreProperties>
</file>